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AB0-FD0D-4106-949C-EC6002EA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5C6-9D48-4383-A367-EF98A4AE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6A6-75E3-493B-A1A6-9B406027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82C-A066-420B-95FB-0EC44AA8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43B6-61BA-4ABF-A6F2-B2C301C0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D118-B4C5-4B5A-9A15-AB19E8EA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6188-CBF4-4E37-B76A-BA3EB792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313C-AD81-4C60-AFD0-AB3ECB79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EA42-23F0-449F-9CD1-9ADE4AF5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BA82-1FC9-4B67-974F-8E30F612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67E3-6BB5-45C7-90BB-AEAEFD11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6203-EE83-4EB6-A247-200E0EB8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787A-75B9-4293-9A70-2EF84E48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68F6-059B-4A74-B182-9CEB03B2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C805-4A2E-4046-9492-2C386AE0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4270-C9A7-4385-9985-82A8E4E8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4563-1D41-4939-AFE9-E4E4C5F3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C0E-5448-4113-9155-5DA9CEFB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A28-CBC5-444A-BDEA-E97C0330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41A6-F571-4642-B291-5696D109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0013-BCCE-4252-BA09-4BE70472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97A-EC4F-45F8-93DD-4309C08D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E22-7109-47CF-B155-86969F8F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8C19-A15B-48F7-8830-157B6BB3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2E14-6CE8-43A9-9235-4DB8C121F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991B-BA4C-4CC4-AB7F-B9BFD0852AE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十一章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管理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事考核的方法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物比较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素分析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量考核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综合考评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考试评议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三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培训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员工培训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战略性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以致用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人施教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内容结构合理化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员工教育培训的内容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技术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高级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员工培训的方法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务转换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研究讨论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职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校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四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员激励机制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激励是指挖掘人的潜力，充分调动人的积极性。在现代公司管理制度中，应该重视对职工的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公司的激励手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种是物质激励，另一种是精神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部门在采取激励措施时还必须注意以下几点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将物质激励和精神激励相结合，采用恰当的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组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不同时期、不同环境条件下，对不同的员工要区别对待，灵活激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措施要公正，要以客观事实为依据，恰如其分地进行激励，对公司的每一个员工都要一视同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五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劳动工资管理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的劳动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劳动分工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劳动协作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额定编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一节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概述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工资福利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员工的劳动报酬分两部分，一部分是直接的金钱报酬，包括工资、奖金、津贴；另一部分是间接的报酬，也就是职工的福利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280" y="404280"/>
            <a:ext cx="820908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复习思考题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力资源管理的主要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人力资源管理应遵循哪些原则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事考核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员工培训的基本原则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员工培训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有哪几种类型？保险公司在采取激励机制时应注意哪些问题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劳动管理的主要内容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力资源管理的概念与任务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的基本任务是根据保险公司发展战略的要求，通过有计划地对人力资源进行合理配置，加强公司员工的教育培训和人力资源的开发，推动整个保险公司各项工作的开展，确保保险公司战略目标的实现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人力资源管理的内容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规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招聘、选择和人事安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结构的合理配置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教育、培训和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工作评价和考核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事业生涯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资福利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力资源管理的原则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时须遵循以下几个原则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协调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任人唯贤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能位相宜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群体合力和互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态适应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四、加强人力资源管理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提高保险公司的劳动效率和经济效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保险公司职工的全面发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有利于建立现代保险公司制度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二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事绩效考核的功能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础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导向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督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人事绩效考核的内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的主要内容有：德、能、勤、绩四个方面，以绩为重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6:08:57Z</dcterms:modified>
  <cp:revision>55</cp:revision>
  <dc:subject/>
  <dc:title>没有幻灯片标题</dc:title>
</cp:coreProperties>
</file>